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8237-6DF4-4740-96DE-833E3239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4599A-422F-4108-A5F5-3BA75E35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9DCBF-FC6C-4646-A762-452D0E5B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E7F30-EC7E-4541-AFB3-735834A3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53EE-757B-4563-A6D0-41FB0C7D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B376-AFF3-4EA9-AC66-BD48A672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F45C-DDD6-4024-89F9-388B09B7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6354-BB21-4F0F-A36C-5F5BC6BD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68EF-AF50-4FD3-8302-F0320CE6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1D4F-0027-4D46-8281-C9D915E7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0EBD-1DC3-4800-9C69-313D8FD8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FB1F0-A37A-4EF4-B3C4-FB83BADC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2E3A-F698-4037-A785-743451B0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55FE-21E7-4323-B1D9-5F8B067D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2C20-15D3-4E47-B5EC-58B11F7E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81E1-4491-41FD-B84F-1BD6D2E2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ED08-20C7-489C-B078-C1A39C92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8B860-E200-4DCD-B60A-A843D217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8F19-F7AA-4FE4-B45C-428D6D57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19205-D654-463B-96B3-ADE6FC97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110E6-CFB8-495A-939C-8185AA14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05E18-AE8E-45E3-B0B2-1FE00618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D9DCE-6928-4472-BDBA-44235F37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5187B-D780-4443-A77D-2C5E2162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E9F7-9A85-4F65-AF0E-4186E8A0A7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3558-76E8-4623-852C-0A96E0DFC1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~PP4026.WAV" TargetMode="External"/><Relationship Id="rId3" Type="http://schemas.microsoft.com/office/2007/relationships/media" Target="file:///tmp/home/.config/libreoffice/4/user/gallery/~PP4026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file:///tmp/home/.config/libreoffice/4/user/gallery/~PP3756.WAV" TargetMode="External"/><Relationship Id="rId3" Type="http://schemas.microsoft.com/office/2007/relationships/media" Target="file:///tmp/home/.config/libreoffice/4/user/gallery/~PP3756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~PP2832.WAV" TargetMode="External"/><Relationship Id="rId3" Type="http://schemas.microsoft.com/office/2007/relationships/media" Target="file:///tmp/home/.config/libreoffice/4/user/gallery/~PP2832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file:///tmp/home/.config/libreoffice/4/user/gallery/~PP2845.WAV" TargetMode="External"/><Relationship Id="rId3" Type="http://schemas.microsoft.com/office/2007/relationships/media" Target="file:///tmp/home/.config/libreoffice/4/user/gallery/~PP2845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~PP672.WAV" TargetMode="External"/><Relationship Id="rId3" Type="http://schemas.microsoft.com/office/2007/relationships/media" Target="file:///tmp/home/.config/libreoffice/4/user/gallery/~PP672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file:///tmp/home/.config/libreoffice/4/user/gallery/~PP279.WAV" TargetMode="External"/><Relationship Id="rId3" Type="http://schemas.microsoft.com/office/2007/relationships/media" Target="file:///tmp/home/.config/libreoffice/4/user/gallery/~PP279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file:///tmp/home/.config/libreoffice/4/user/gallery/~PP277.WAV" TargetMode="External"/><Relationship Id="rId3" Type="http://schemas.microsoft.com/office/2007/relationships/media" Target="file:///tmp/home/.config/libreoffice/4/user/gallery/~PP277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~PP990.WAV" TargetMode="External"/><Relationship Id="rId3" Type="http://schemas.microsoft.com/office/2007/relationships/media" Target="file:///tmp/home/.config/libreoffice/4/user/gallery/~PP990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~PP379.WAV" TargetMode="External"/><Relationship Id="rId3" Type="http://schemas.microsoft.com/office/2007/relationships/media" Target="file:///tmp/home/.config/libreoffice/4/user/gallery/~PP379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~PP48.WAV" TargetMode="External"/><Relationship Id="rId3" Type="http://schemas.microsoft.com/office/2007/relationships/media" Target="file:///tmp/home/.config/libreoffice/4/user/gallery/~PP4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~PP3736.WAV" TargetMode="External"/><Relationship Id="rId3" Type="http://schemas.microsoft.com/office/2007/relationships/media" Target="file:///tmp/home/.config/libreoffice/4/user/gallery/~PP3736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~PP3437.WAV" TargetMode="External"/><Relationship Id="rId3" Type="http://schemas.microsoft.com/office/2007/relationships/media" Target="file:///tmp/home/.config/libreoffice/4/user/gallery/~PP3437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~PP3622.WAV" TargetMode="External"/><Relationship Id="rId3" Type="http://schemas.microsoft.com/office/2007/relationships/media" Target="file:///tmp/home/.config/libreoffice/4/user/gallery/~PP3622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file:///tmp/home/.config/libreoffice/4/user/gallery/~PP3401.WAV" TargetMode="External"/><Relationship Id="rId3" Type="http://schemas.microsoft.com/office/2007/relationships/media" Target="file:///tmp/home/.config/libreoffice/4/user/gallery/~PP3401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~PP3742.WAV" TargetMode="External"/><Relationship Id="rId3" Type="http://schemas.microsoft.com/office/2007/relationships/media" Target="file:///tmp/home/.config/libreoffice/4/user/gallery/~PP3742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Ich war in Australie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781680" cy="3390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ch habe meinen kleinen Bruder gefilm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5334120" cy="4986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9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hat mir gut gefall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429760" cy="5108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2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ch bin in einem Flugzeug geflogen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782040" cy="5092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5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 Fluegzeug habe ich meine Bruder fotografier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8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ch hatte das nicht so ger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257800" cy="5048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1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u sollst nach Australien geh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5562360" cy="501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ch bin in einem Hotel geblieb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63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ch war in Sydne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48760" cy="5181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8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ch habe die Oper geseh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309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ch bin in Oper nicht ger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943600" cy="5408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4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ch habe das Outback besichtig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7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ch bin im Jeep nach kangaroos gefahre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4992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0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s habe ich sehr gern gemach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372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ch bin am Meer gegang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5035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6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10:15Z</dcterms:created>
  <dc:creator>CUSD220</dc:creator>
  <dc:description/>
  <dc:language>en-US</dc:language>
  <cp:lastModifiedBy>CUSD220</cp:lastModifiedBy>
  <dcterms:modified xsi:type="dcterms:W3CDTF">2011-11-15T17:24:16Z</dcterms:modified>
  <cp:revision>4</cp:revision>
  <dc:subject/>
  <dc:title>Ich war in Australien</dc:title>
</cp:coreProperties>
</file>